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AD81C-B507-4093-B1EC-032398769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EE23-7034-4AA0-8650-F1CCE61B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76546-A7E8-4FA8-943F-570955AA4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FE1E0-964E-41BC-B39C-0917601A5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B1B7-4033-41C6-A999-8EEB34B8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8097-12C0-41D2-B3E0-9591C0927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F0459-E765-4858-BE96-B4D4663F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164F-F47A-4F11-AA99-BBB91A79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C894-097D-40F3-91AA-1853501D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5D9D-5EA1-46F8-A3E9-B9713AFA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EE95-CE42-406C-8691-E87C71398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C630-E01A-465B-A7C5-A40EE4067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9481-DD5B-473F-9798-0849981129C3}"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u="sng">
                <a:solidFill>
                  <a:srgbClr val="000000"/>
                </a:solidFill>
                <a:uFillTx/>
                <a:latin typeface="Calibri"/>
              </a:rPr>
              <a:t>Free radical addition polymerization of Polyethylene (polyethene)</a:t>
            </a:r>
            <a:endParaRPr b="0" lang="en-US" sz="40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ditions: 200 MPa and above 160 degrees Celsiu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Monomer:  Ethe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nitiator: benzoyl peroxid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of process: The initiator breaks apart and forms radicals. The radicals attatch to ethene molecules and breaks the pi bond in ethene. This is called initiation. An unpair electron is now present at the end of the chain to continue the process, lengthening the molecule. This is called propagation. If two radicals bond together there will be no more unpaired electrons. This stops the propagation of the chain and is called termin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C:\Users\Qingda Hu\Pictures\Picture002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2" descr="C:\Users\Qingda Hu\Pictures\Picture00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C:\Users\Qingda Hu\Pictures\Picture002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C:\Users\Qingda Hu\Pictures\Picture00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2" descr="C:\Users\Qingda Hu\Pictures\Picture0030.jpg"/>
          <p:cNvPicPr/>
          <p:nvPr/>
        </p:nvPicPr>
        <p:blipFill>
          <a:blip r:embed="rId1"/>
          <a:stretch/>
        </p:blipFill>
        <p:spPr>
          <a:xfrm>
            <a:off x="0" y="0"/>
            <a:ext cx="9144000" cy="6858000"/>
          </a:xfrm>
          <a:prstGeom prst="rect">
            <a:avLst/>
          </a:prstGeom>
          <a:ln w="0">
            <a:noFill/>
          </a:ln>
        </p:spPr>
      </p:pic>
      <p:sp>
        <p:nvSpPr>
          <p:cNvPr id="81" name="Title 1"/>
          <p:cNvSpPr/>
          <p:nvPr/>
        </p:nvSpPr>
        <p:spPr>
          <a:xfrm>
            <a:off x="395280" y="90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iti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C:\Users\Qingda Hu\Pictures\Picture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C:\Users\Qingda Hu\Pictures\Picture003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C:\Users\Qingda Hu\Pictures\Picture00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C:\Users\Qingda Hu\Pictures\Picture003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C:\Users\Qingda Hu\Pictures\Picture003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44" name="Text Placeholder 2"/>
          <p:cNvGraphicFramePr/>
          <p:nvPr/>
        </p:nvGraphicFramePr>
        <p:xfrm>
          <a:off x="-36360" y="189000"/>
          <a:ext cx="9972360" cy="6856200"/>
        </p:xfrm>
        <a:graphic>
          <a:graphicData uri="http://schemas.openxmlformats.org/presentationml/2006/ole">
            <p:oleObj r:id="rId1" spid="">
              <p:embed/>
              <p:pic>
                <p:nvPicPr>
                  <p:cNvPr id="45" name="Text Placeholder 2" descr=""/>
                  <p:cNvPicPr/>
                  <p:nvPr/>
                </p:nvPicPr>
                <p:blipFill>
                  <a:blip r:embed="rId2"/>
                  <a:stretch/>
                </p:blipFill>
                <p:spPr>
                  <a:xfrm>
                    <a:off x="-36360" y="189000"/>
                    <a:ext cx="9972360" cy="685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C:\Users\Qingda Hu\Pictures\Picture003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C:\Users\Qingda Hu\Pictures\Picture003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C:\Users\Qingda Hu\Pictures\Picture003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8" name="Picture 2" descr="C:\Users\Qingda Hu\Pictures\Picture003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C:\Users\Qingda Hu\Pictures\Picture004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C:\Users\Qingda Hu\Pictures\Picture004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C:\Users\Qingda Hu\Pictures\Picture004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2" descr="C:\Users\Qingda Hu\Pictures\Picture0043.jpg"/>
          <p:cNvPicPr/>
          <p:nvPr/>
        </p:nvPicPr>
        <p:blipFill>
          <a:blip r:embed="rId1"/>
          <a:stretch/>
        </p:blipFill>
        <p:spPr>
          <a:xfrm>
            <a:off x="0" y="0"/>
            <a:ext cx="9144000" cy="6858000"/>
          </a:xfrm>
          <a:prstGeom prst="rect">
            <a:avLst/>
          </a:prstGeom>
          <a:ln w="0">
            <a:noFill/>
          </a:ln>
        </p:spPr>
      </p:pic>
      <p:sp>
        <p:nvSpPr>
          <p:cNvPr id="121" name="Title 1"/>
          <p:cNvSpPr/>
          <p:nvPr/>
        </p:nvSpPr>
        <p:spPr>
          <a:xfrm>
            <a:off x="539640" y="10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pag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2" descr="C:\Users\Qingda Hu\Pictures\Picture004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2" descr="C:\Users\Qingda Hu\Pictures\Picture00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8" name="Picture 2" descr="C:\Users\Qingda Hu\Pictures\Picture0019.jpg"/>
          <p:cNvPicPr/>
          <p:nvPr/>
        </p:nvPicPr>
        <p:blipFill>
          <a:blip r:embed="rId1"/>
          <a:stretch/>
        </p:blipFill>
        <p:spPr>
          <a:xfrm>
            <a:off x="0" y="0"/>
            <a:ext cx="9144000" cy="6858000"/>
          </a:xfrm>
          <a:prstGeom prst="rect">
            <a:avLst/>
          </a:prstGeom>
          <a:ln w="0">
            <a:noFill/>
          </a:ln>
        </p:spPr>
      </p:pic>
      <p:sp>
        <p:nvSpPr>
          <p:cNvPr id="49" name="TextBox 4"/>
          <p:cNvSpPr/>
          <p:nvPr/>
        </p:nvSpPr>
        <p:spPr>
          <a:xfrm>
            <a:off x="1171440" y="6000840"/>
            <a:ext cx="46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blue molecule represents a benzoyl 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C:\Users\Qingda Hu\Pictures\Picture004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3" name="Picture 2" descr="C:\Users\Qingda Hu\Pictures\Picture004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C:\Users\Qingda Hu\Pictures\Picture00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C:\Users\Qingda Hu\Pictures\Picture004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C:\Users\Qingda Hu\Pictures\Picture005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2" descr="C:\Users\Qingda Hu\Pictures\Picture00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C:\Users\Qingda Hu\Pictures\Picture005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1" name="Picture 2" descr="C:\Users\Qingda Hu\Pictures\Picture005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4" name="Picture 2" descr="C:\Users\Qingda Hu\Pictures\Picture005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C:\Users\Qingda Hu\Pictures\Picture005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C:\Users\Qingda Hu\Pictures\Picture00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0" name="Picture 2" descr="C:\Users\Qingda Hu\Pictures\Picture005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C:\Users\Qingda Hu\Pictures\Picture005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6" name="Picture 2" descr="C:\Users\Qingda Hu\Pictures\Picture00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9" name="Picture 2" descr="C:\Users\Qingda Hu\Pictures\Picture00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2" name="Picture 2" descr="C:\Users\Qingda Hu\Pictures\Picture006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2" descr="C:\Users\Qingda Hu\Pictures\Picture00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C:\Users\Qingda Hu\Pictures\Picture006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C:\Users\Qingda Hu\Pictures\Picture006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2" descr="C:\Users\Qingda Hu\Pictures\Picture006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7" name="Picture 2" descr="C:\Users\Qingda Hu\Pictures\Picture006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Users\Qingda Hu\Pictures\Picture00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0" name="Picture 2" descr="C:\Users\Qingda Hu\Pictures\Picture006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3" name="Picture 2" descr="C:\Users\Qingda Hu\Pictures\Picture0067.jpg"/>
          <p:cNvPicPr/>
          <p:nvPr/>
        </p:nvPicPr>
        <p:blipFill>
          <a:blip r:embed="rId1"/>
          <a:stretch/>
        </p:blipFill>
        <p:spPr>
          <a:xfrm>
            <a:off x="0" y="0"/>
            <a:ext cx="9144000" cy="6858000"/>
          </a:xfrm>
          <a:prstGeom prst="rect">
            <a:avLst/>
          </a:prstGeom>
          <a:ln w="0">
            <a:noFill/>
          </a:ln>
        </p:spPr>
      </p:pic>
      <p:sp>
        <p:nvSpPr>
          <p:cNvPr id="194" name="Title 1"/>
          <p:cNvSpPr/>
          <p:nvPr/>
        </p:nvSpPr>
        <p:spPr>
          <a:xfrm>
            <a:off x="468360" y="69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erm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7" name="Picture 2" descr="C:\Users\Qingda Hu\Pictures\Picture006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2" descr="C:\Users\Qingda Hu\Pictures\Picture006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2" descr="C:\Users\Qingda Hu\Pictures\Picture007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Users\Qingda Hu\Pictures\Picture00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C:\Users\Qingda Hu\Pictures\Picture00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C:\Users\Qingda Hu\Pictures\Picture00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C:\Users\Qingda Hu\Pictures\Picture002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01:56:08Z</dcterms:created>
  <dc:creator>Qingda Hu</dc:creator>
  <dc:description/>
  <dc:language>en-US</dc:language>
  <cp:lastModifiedBy>HuQ</cp:lastModifiedBy>
  <dcterms:modified xsi:type="dcterms:W3CDTF">2010-06-11T16:35:57Z</dcterms:modified>
  <cp:revision>10</cp:revision>
  <dc:subject/>
  <dc:title>Slide 1</dc:title>
</cp:coreProperties>
</file>